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C17-66F1-4803-9313-4FF60039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533-8D2C-4E8A-93C1-57C22FAD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DC1-94BF-41B4-83EB-D0F24473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DE2-32D0-4FF4-9578-D3AA5717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B544-1BC6-4CBB-8FBD-87770B24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B454-7A0F-4948-9C59-228BA6E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CCD4-41A4-4B2F-A6AC-9E74D41A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9314-7800-474A-B0AE-264E678D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43E-5C52-465A-A787-77EE25BD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87B5-E229-4026-AE3D-9034A161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D0B4-D918-4D7E-A06E-381F12A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B77-830F-4849-8889-3647D9C5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5C97-4FE4-4C35-B2EE-6BF69428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C4EE-4A74-4B2B-947B-BC79359F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B525-8F54-4351-A4F1-C4E2E9A8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A4A0-7297-4F79-9B60-B018DB0B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574D-89B0-4ED7-B705-F1BF6585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F82-19A9-4BCF-8DC1-177F2AD0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A31-BA3B-410E-8D0D-9D75B709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E5C-B68F-4C95-B2E3-5427CD90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B37-0C79-4786-B10D-26E1D083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E6A-BC75-4518-88B4-7CF20D75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F68-2273-46E2-951D-D55C6B5B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047-4B3C-4ABF-B793-4365005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8645-9319-4590-8EC9-660311BB3C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CE2E-6843-464A-9C7E-24EBB5CE5B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3366"/>
                </a:solidFill>
                <a:latin typeface="Arial"/>
              </a:rPr>
              <a:t>БОЛНИЧКЕ</a:t>
            </a: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003366"/>
                </a:solidFill>
                <a:latin typeface="Arial"/>
              </a:rPr>
              <a:t>ИНФЕКЦИЈЕ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ИФИКАЦИЈА БОЛНИЧКИХ ИНФЕКЦИЈА ПРЕМА АНАТОМСКОЈ ЛОКАЛИЗАЦИЈ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. ИНФЕКЦИЈЕ КОШТАНО-ЗГЛОБ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Остеом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и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ел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Инфекција зглоба и бурзе                  3. Инфекција интервертебралног простор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. ИНФЕКЦИЈЕ КАРДИОВАСКУЛАР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Артеритис и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ф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леб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Ендо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рд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Мyо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рдитис или пери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рд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 Медиастин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I. ИНФЕКЦИЈЕ ЦЕНТРАЛНОГ НЕРВ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Интракранијална инфекциј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Менингитис или вентри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ул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Спинални апсцес без менингитис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III. ИНФЕКЦИЈЕ ОКА, УХА И НО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њу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нкт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витис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Друге инфекције о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Отитис еxтер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 Отитис меди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. Отитис интерн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. Мастоид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. Сину</a:t>
            </a:r>
            <a:r>
              <a:rPr b="0" lang="sr-CS" sz="1600" spc="-1" strike="noStrike">
                <a:solidFill>
                  <a:srgbClr val="003366"/>
                </a:solidFill>
                <a:latin typeface="Arial"/>
              </a:rPr>
              <a:t>з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ти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ИФИКАЦИЈА БОЛНИЧКИХ ИНФЕКЦИЈА ПРЕМА АНАТОМСКОЈ ЛОКАЛИЗАЦИЈ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X. ИНФЕКЦИЈЕ СИСТЕМА ЗА ВАРЕЊ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Инфекција усне дупље (уста, језика и десни)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Гастроентеритис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Некротизирајући ентеро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олитис код детет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4. Инфекција једњака, желуца и цре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5. Хепатитис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6. Интраабдоминална инфекциј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. ИНФЕКЦИЈЕ СИСТЕМА ЗА ДИСАЊЕ (изузев пнеумониј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Инфекција горњег дела система за дисање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Бронхитис, трахеитис, трахеобронхитис и 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бронхиолитис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Друге инфекције доњег дела система за дисањ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. ИНФЕКЦИЈЕ ПОЛНОГ СИСТЕМ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Ендометритис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Инфекција епизиотомиј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Инфекција вагиналног свод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4. Друге инфекције мушког и женског полног систем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I. ИНФЕКЦИЈЕ КОЖЕ И МЕКИХ ТКИ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 Инфекције коже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 Инфекције меких тки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 Инфекција декубитусног улкус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4. Инфекција опекотин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5. Апсцес дојке или маститис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6. Ом</a:t>
            </a:r>
            <a:r>
              <a:rPr b="0" lang="sr-CS" sz="1200" spc="-1" strike="noStrike">
                <a:solidFill>
                  <a:srgbClr val="003366"/>
                </a:solidFill>
                <a:latin typeface="Arial"/>
              </a:rPr>
              <a:t>ф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алитис код новорођенче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7. Пустулоза код детета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8. Инфекција места циркумцизије код новорођенче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XIII. СИСТЕМСКЕ ИНФЕК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А ЛИ ЈЕ ЗДРАВСТВЕНИ РАДНИК ИЗВОР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РАНСМИСИЈЕ ИХ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отребно је да сви здравствени радници буду упознати са ризиком настанка инфекција и путевима трансмисије патоге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64000" y="2421000"/>
            <a:ext cx="2202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А ЛИ ЈЕ ЗДРАВСТВЕНИ РАДНИК ИЗВОР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РАНСМИСИЈЕ ИХ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За процену ризика трансмисије неопходно је узети у обзир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гућност, квалитет, квантитет и дужину контакта са инфективним извор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нтагиозност узрочног микроорганизма, укључујући његову способност преживљавањ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3366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оцедуре и кораке предузете од здравственог радника да избегне инфекциј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757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ајважније заразне болести које могу пренети здравствени радниц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Кожне инфекциј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taphylococcus Aureus, Streptococcus grupe A, Herpes simple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Цревне болест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утна дијареја –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almonella spp, Campyulobacter</a:t>
            </a:r>
            <a:r>
              <a:rPr b="0" i="1" lang="sr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pp, Hepatitis A)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Респираторне болест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азеб, грип, ТБЦ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Болести које се преносе крвљ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ХБВ, ХИВ, ХЦВ, АИДС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изик за трансисију ХИВ је 100 пута нижи од ризика за ХБ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акциналне болести (Varicela zoster, морбил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УРИНАРНЕ ИНФЕКЦИЈЕ (УИ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јчешћи тип нозокомијалних инфек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ко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повезано са ношењем уринарних катете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УРИНАРНЕ ИНФЕКЦИЈЕ (УИ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зазване су различитим патогенима, од којих многи улазе у састав ендогене флоре дебелог црева, нпр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scherichia coli, Klebsiella spp, Proteus spp, Enterococcus spp, Enterobacter sp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топа инфекције расте са дужином ношења катете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јчешћи разлози за продор бактерија у мокраћну бешику за време катетеризације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непоштовање принципа асепсе при постављању катете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непостојање везе између катетера и дренажног кан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контаминација за време ириг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колонизација дренажне кесе и рефлукс контаминираног урина у мокраћну бешик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УРИНАРНЕ ИНФЕКЦИЈЕ (УИ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3054"/>
                </a:solidFill>
                <a:latin typeface="Arial"/>
              </a:rPr>
              <a:t>Фактори риз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тални уринарни катете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имена уролошких инструм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тарији узра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Женски по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ешка основна боле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ИНФЕКЦИЈЕ ОПЕРАТИВНОГ МЕСТА (ИОМ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Главни извор Мб и Мт оперисаних –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ко 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1/3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вих ИХ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дужују хоспитализац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Е ИНФЕКЦИЈЕ ОПЕРАТИВНОГ МЕСТА (ИОМ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3054"/>
                </a:solidFill>
                <a:latin typeface="Arial"/>
              </a:rPr>
              <a:t>Фактори риз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одужен преоперативни боравак у болниц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оперативно бријање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оштећење коже, колонизациј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ужина операције (&gt; 2 сат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Хируршка тех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зитивна култура оперативног места + удаљена инфекц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тање пацијента</a:t>
            </a:r>
            <a:r>
              <a:rPr b="1" lang="sr-C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гојазност, малнутриција, дијабетес и с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ДЕФИНИЦИЈА БОЛНИЧКЕ</a:t>
            </a:r>
            <a:br>
              <a:rPr sz="3200"/>
            </a:b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ИНФЕК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Болничка ( интрахоспитална,  нозокомијална или кућна) инфекција је инфекција настала у пацијената и особља у болници или некој другој здравственој установ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За потребе епидемиолошког надзора болничка инфекција се дефинише као локално или системско обољење (стање) које је резултат непожељне реакције организма на присуство инфективног агенса (једног или више) или његових токсина, а које није било присутно нити је пацијент био у инкубацији приликом пријема у болницу или неку другу здравствену установ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* Категоризација оперативног места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према степену микробне контаминације)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Чист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примарно затворене ра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Чисто-контаминиран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дире се у респираторни, дигестивни, генитални или уринарни систем под контрол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I.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Контаминиран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ворене свеже ране или операције са великим нарушавањем асептичне технике уз присуство инфициранх урина или жуч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V. </a:t>
            </a:r>
            <a:r>
              <a:rPr b="1" lang="en-US" sz="2000" spc="-1" strike="noStrike">
                <a:solidFill>
                  <a:srgbClr val="ee3054"/>
                </a:solidFill>
                <a:latin typeface="Arial"/>
              </a:rPr>
              <a:t>Прљава и инфицирана оперативна мест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ране)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старе трауматичне ране са девитализованим ткивом, старим телима или фекалном контаминациј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А ПНЕУМОНИЈА (НП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Једна од најчешћих ИХИ (нарочито у јединицама интензивне неге са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јвећим М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од свих ИХИ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~ 30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дужава хоспитализацију и поскупљује лече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ОЗОКОМИЈАЛНА ПНЕУМОНИЈА (НП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3054"/>
                </a:solidFill>
                <a:latin typeface="Arial"/>
              </a:rPr>
              <a:t>Фактори ризик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фактори који повећавају фреквенцију аспирације, количину или патогеност инокулираних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икроорганизама, оштећују локалну одбрану респираторног тракта и општи имунитет. Од највећег значаја су: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еханичка вентилација и трахеална интуб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ОЗОКОМИЈАЛНЕ ИНФЕКЦИЈЕ КРВИ -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БАКТЕРИЈЕМИЈА И СЕПСА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 већини случајева у вези су са употребом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нтраваскуларних катете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т је висок (25-60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марне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ез препознатог фокуса инфекције на неком другом анатомском месту, са истим микроорганизм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екундарн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- последица документоване инфекције другог анатомског места, са истим микроорганизм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тиологија - Коагулаза негативни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Staphilococci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/4 ИК),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Enterococc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Candid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spp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ОЗОКОМИЈАЛНЕ ИНФЕКЦИЈЕ КРВИ -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БАКТЕРИЈЕМИЈА И СЕПСА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e3054"/>
                </a:solidFill>
                <a:uFillTx/>
                <a:latin typeface="Arial"/>
              </a:rPr>
              <a:t>Фактори ризика:</a:t>
            </a:r>
            <a:r>
              <a:rPr b="0" lang="en-US" sz="2000" spc="-1" strike="noStrike">
                <a:solidFill>
                  <a:srgbClr val="ee305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ајмлађи и најстарији узрас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Гранулоцитопениј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Имуносупресивна хемиотерапиј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Губитак интегритета коже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нпр. опекотине, псоријаза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Тежина основне болес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рисуство удаљене инфекциј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рста катетера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пластични &gt; челични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еличина катете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Број лумена катете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Локација катетера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централни &gt; периферни; в. феморалис &gt; в. југуларис / в. субклавиус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ачин постављања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дубоко &gt; перкутано; ургентно &gt; елективно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Дужина стајања катете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штећење пацијентове кожне микрофлоре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Непоштовање праксе прања руку персонал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НАЧАЈ Б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честал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жина обоље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Цена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 продужена хоспитализац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повећана нега пациј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 леко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ЦЕНА у зависности од: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врсте проузроковач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локализације инфек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патологије основне боле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ВЕНЦИЈА БОЛНИЧКИХ ИНФЕКЦИЈ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ОГУЋЕ СМАЊЕЊЕ СТОПЕ</a:t>
            </a:r>
            <a:r>
              <a:rPr b="1" lang="sr-CS" sz="2800" spc="-1" strike="noStrike">
                <a:solidFill>
                  <a:srgbClr val="0033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о постоји активни епидемиолошки надз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о постоје писане препору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о постоји особље (сестра за БИ, епидемиоло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►</a:t>
            </a:r>
            <a:r>
              <a:rPr b="1" lang="sr-CS" sz="3200" spc="-1" strike="noStrike" u="sng">
                <a:solidFill>
                  <a:srgbClr val="006666"/>
                </a:solidFill>
                <a:uFillTx/>
                <a:latin typeface="Arial"/>
              </a:rPr>
              <a:t>Центар за контролу болничких инфекција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: Класификација мера превен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3054"/>
                </a:solidFill>
                <a:uFillTx/>
                <a:latin typeface="Arial"/>
              </a:rPr>
              <a:t>Категорија </a:t>
            </a:r>
            <a:r>
              <a:rPr b="0" lang="sr-CS" sz="2400" spc="-1" strike="noStrike" u="sng">
                <a:solidFill>
                  <a:srgbClr val="ee3054"/>
                </a:solidFill>
                <a:uFillTx/>
                <a:latin typeface="Arial"/>
              </a:rPr>
              <a:t>1.</a:t>
            </a:r>
            <a:r>
              <a:rPr b="0" lang="en-US" sz="2400" spc="-1" strike="noStrike">
                <a:solidFill>
                  <a:srgbClr val="ee3054"/>
                </a:solidFill>
                <a:latin typeface="Arial"/>
              </a:rPr>
              <a:t> (мере чија је ефикасност доказана у студија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ање рук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сепса током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лечења (уринарна сонда, ив-катетер, вештачка вентилациј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изолац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терилизација и дезинфекција медицинско-хируршког материјал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финисање правилног коришћења антибиотика и антибиопрофилаксе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током 24 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56360" y="332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►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ЦДЦ: Класификација мера превен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76928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3054"/>
                </a:solidFill>
                <a:uFillTx/>
                <a:latin typeface="Arial"/>
              </a:rPr>
              <a:t>Категорија </a:t>
            </a:r>
            <a:r>
              <a:rPr b="0" lang="sr-CS" sz="2000" spc="-1" strike="noStrike" u="sng">
                <a:solidFill>
                  <a:srgbClr val="ee3054"/>
                </a:solidFill>
                <a:uFillTx/>
                <a:latin typeface="Arial"/>
              </a:rPr>
              <a:t>2.</a:t>
            </a:r>
            <a:r>
              <a:rPr b="0" lang="en-US" sz="2000" spc="-1" strike="noStrike">
                <a:solidFill>
                  <a:srgbClr val="ee3054"/>
                </a:solidFill>
                <a:latin typeface="Arial"/>
              </a:rPr>
              <a:t> (ефикасност мера доказана на основу искуств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ишћење болниц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нтрола и едукац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3054"/>
                </a:solidFill>
                <a:uFillTx/>
                <a:latin typeface="Arial"/>
              </a:rPr>
              <a:t>Категорија </a:t>
            </a:r>
            <a:r>
              <a:rPr b="0" lang="sr-CS" sz="2000" spc="-1" strike="noStrike" u="sng">
                <a:solidFill>
                  <a:srgbClr val="ee3054"/>
                </a:solidFill>
                <a:uFillTx/>
                <a:latin typeface="Arial"/>
              </a:rPr>
              <a:t>3.</a:t>
            </a:r>
            <a:r>
              <a:rPr b="0" lang="en-US" sz="2000" spc="-1" strike="noStrike">
                <a:solidFill>
                  <a:srgbClr val="ee3054"/>
                </a:solidFill>
                <a:latin typeface="Arial"/>
              </a:rPr>
              <a:t> (сумњива ефикасност, одбачене, контраверзн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утински бактериолошки брисеви радних површина и особљ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зинфекција подо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Деконтаминација ваздуха у болесничким собама УВ лампа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Завршна дезинфекција формалин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ватернерне амонијумове базе за антисепсу кож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увци за обућ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тирачи на улазу у одељење са антисептик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ПРЕВЕНЦИЈА УРИНАРНИХ ИНФЕКЦИЈ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ндикације за уринарни катетер свести на миниму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граничити дужину ношења катете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ристити затворени сист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штовати мере асепсе током постављања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тетера и ра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ање руку (антисептично), рукавице при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вљањ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ерианална тоале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6666"/>
                </a:solidFill>
                <a:latin typeface="Arial"/>
              </a:rPr>
              <a:t>ЈЕДНА ИНФЕКЦИЈА СМАТРАЋЕ СЕ БОЛНИЧКО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је настала у болници и постала евидентна 48 сати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(типичан инкубациони период за већину бактеријских болничких инфекција) после пријема пацијента у болницу, или касн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се утврди да је повезана са хирушком интервенцијом, а испољи се у току 30 дана после хирушке интервенције у случају да имплантат није уграђен, или у току једне године ако је уграђ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се испољила после отпуста пацијента из болнице, а епидемиолошки подаци показују да је настала у болниц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Ако је настала у новорођенчета као резултат пролаза кроз порођајни канал мај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ПРЕВЕНЦИЈА УРИНАРНИХ ИНФЕКЦИЈ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Дискутабилне ме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Антирефлуксна валвула на кес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Убацивање антисептика или антибиотика у кес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Коришћење катетера импрегнираних АБ или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солима 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Штетне ме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Иригација мокраћне бешике АБ или антисепти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А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ВЕНЦИЈА ИНФЕКЦИЈА ОПЕРАТИВНОГ МЕСТ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МЕРЕ ПРЕ ОПЕР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Смањити дужину боравка у болници пре операциј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Модификовати факторе домаћина (контрола гликемије, смањење ТТ, поправити малнутрицију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Преоперативно купањ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Бријање? (електрично, крема, дан раније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Антибиопрофилакса (24 х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МЕРЕ ТОКОМ ОПЕРА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Стриктно поштовање антисепсе кож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Хируршко прање рук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Маске, одело, кап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Рукавиц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Смањити број присутних у операционој сал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Ваздух: позитивни притисак, обнављање 15 пута/са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ПОСТОПЕРАТИВНЕ МЕР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Надзо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ВЕНЦИЈА ПНЕУМОНИЈ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Едукација особља и надзор над БИ (не узимати рутинске брисеве од пацијената и опрем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ПРЕВЕНЦИЈА ЕГЗОГЕНЕ ИНФЕКЦИЈ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ање ру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ошење рукавица за негу особа на вештачкој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ентилациј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▼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езинфекција материја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ристити стерилну воду за оксигенотерапију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еросоле и хумидат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ристити стерилну назалну сонд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езервоар хумидатора мора бити опран, дезинфикован, испран и осушен сваког да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рева хумидатора мењати на 48 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ВЕНЦИЈА ПНЕУМОН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ПРЕВЕНЦИЈА ЕНДОГЕНОГ РИЗ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ПРЕВЕНЦИЈА КОЛОНИЗАЦИЈЕ ДОЊИХ РЕ ПУТЕ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ПРЕВЕНЦИЈА КОЛОНИЗАЦИЈЕ ГОРЊИХ РЕ-ДИГ ПУТЕ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3054"/>
                </a:solidFill>
                <a:latin typeface="Arial"/>
              </a:rPr>
              <a:t>ОПШТЕ МЕРЕ ПРЕВЕН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ИНФЕКЦИЈЕ И СТАЊА КОЈА СЕ НЕ СМАТРАЈУ БОЛНИЧКОМ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6666"/>
                </a:solidFill>
                <a:latin typeface="Arial"/>
              </a:rPr>
              <a:t>ИНФЕКЦИЈО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Компликација раније настале инфекције или продужење инфекције присутне при пријему (осим ако промена узрочника или знакова и симптома не указују јасно на настанак нове инфекциј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Колонизација, тј. присуство микроорганизама (на кожи, слузницама, у отвореним ранама или у екскретима и секретима) који не проузрокују клиничке знаке и симптом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Инфламација, стање које настаје као одговор ткива на повреду или стимулацију незаразним (неинфективним) агенсима, као што су хемикалије 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Инфекција новорођенчета за коју се зна или докаже да је настала трансплацентарно  (нпр. токсоплазмоза, рубела, цитомегало­вирусна инфекција,  или сифилис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ПРИНЦИПИ Н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</a:t>
            </a: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 КОЈИМА СЕ ЗАСНИВАЈУ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ДЕФИНИЦИЈЕ ИХ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За утврђивање присуства и класификацију ИХИ користе се комбинациј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клиничких нала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лабораторијских тестова 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других дијагностичких поступа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Ни превентабилност ни неизбежност</a:t>
            </a:r>
            <a:r>
              <a:rPr b="0" i="1" lang="sl-SI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једне инфекције не узимају се у разматраје при одређивању да ли је она болничка или 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ПРИНЦИПИ Н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</a:t>
            </a: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 КОЈИМА СЕ ЗАСНИВАЈУ ДЕФИНИЦИЈЕ ИХ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Дефиниције ИХИ које се користе за епидемиолошки надзор нису намењене за друге сврх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Не постоји специфично време у току или после хоспитализације које би детерминисало једну инфекцију као болничку (изузеци су дати у дефиниција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Свака инфекција мора бити индивидуално процењена како би се доказала њена повезаност са хоспитализациј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66"/>
                </a:solidFill>
                <a:latin typeface="Arial"/>
              </a:rPr>
              <a:t>ДЕФИНИЦИЈА ЕПИДЕМИЈЕ БОЛНИЧКЕ ИНФЕКЦИЈ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Појава болничких инфекција изазваних истим узрочником у броју који превазилази уобичајену учесталост у одређеној групи пацијената у датом временском период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Болничке инфекције које чине епидемију епидемиолошки су повезане, не само по месту и времену јављања, већ и по предузетим поступцима у дијагностиц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l-SI" sz="2800" spc="-1" strike="noStrike">
                <a:solidFill>
                  <a:srgbClr val="003366"/>
                </a:solidFill>
                <a:latin typeface="Arial"/>
              </a:rPr>
              <a:t> нези и лечењу пацијена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ЕРВОАРИ  ИХ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езервоар:  жива и нежива средина у којој инфективни агенс може да преживи и да се размножавана такав начин да може да се пренесе на осетљивог домаћ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Здравствени</a:t>
            </a:r>
            <a:r>
              <a:rPr b="1" lang="en-US" sz="1800" spc="-1" strike="noStrike" u="sng">
                <a:solidFill>
                  <a:srgbClr val="666699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радници</a:t>
            </a:r>
            <a:r>
              <a:rPr b="1" lang="en-US" sz="1800" spc="-1" strike="noStrike">
                <a:solidFill>
                  <a:srgbClr val="1f8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пацијен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у најзначајниј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жив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резервоари нозокомијалних агена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д </a:t>
            </a:r>
            <a:r>
              <a:rPr b="1" lang="en-US" sz="1800" spc="-1" strike="noStrike">
                <a:solidFill>
                  <a:srgbClr val="ee3054"/>
                </a:solidFill>
                <a:latin typeface="Arial"/>
              </a:rPr>
              <a:t>неживи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резервоара најзначајнији извори су они који се односе на </a:t>
            </a:r>
            <a:r>
              <a:rPr b="1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воду</a:t>
            </a:r>
            <a:r>
              <a:rPr b="1" lang="en-US" sz="1800" spc="-1" strike="noStrike">
                <a:solidFill>
                  <a:srgbClr val="1f8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1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друге</a:t>
            </a:r>
            <a:r>
              <a:rPr b="1" lang="en-US" sz="1800" spc="-1" strike="noStrike" u="sng">
                <a:solidFill>
                  <a:srgbClr val="1f8fff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ee3054"/>
                </a:solidFill>
                <a:uFillTx/>
                <a:latin typeface="Arial"/>
              </a:rPr>
              <a:t>течности</a:t>
            </a:r>
            <a:r>
              <a:rPr b="0" lang="en-US" sz="1800" spc="-1" strike="noStrike">
                <a:solidFill>
                  <a:srgbClr val="1f8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40240" y="23954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ЛАСИФИКАЦИЈА БОЛНИЧКИХ ИНФЕКЦИЈА ПРЕМА АНАТОМСКОЈ ЛОКАЛИЗАЦИЈ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. ИНФЕКЦИЈЕ ОПЕРАТИВНОГ МЕ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Површинска инфекција оперативног места (инцизије, рез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Дубока инфекција оперативног места (инцизије, рез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Инфекција органа/простора оперативног мес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. ИНФЕКЦИЈЕ МОКРАЋНОГ СИСТ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Симптоматска инфекција мокраћног сист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Асимптоматска бактериур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Друге инфекције мокраћног систе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II. ПНЕУМОНИЈ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V. ИНФЕКЦИЈЕ КР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Лабораторијски потврђена инфекција кр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Клинички потврђена инфекција крви - сепс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20:33:35Z</dcterms:created>
  <dc:creator>Gordana</dc:creator>
  <dc:description/>
  <dc:language>en-US</dc:language>
  <cp:lastModifiedBy> </cp:lastModifiedBy>
  <dcterms:modified xsi:type="dcterms:W3CDTF">2017-01-09T10:50:26Z</dcterms:modified>
  <cp:revision>11</cp:revision>
  <dc:subject/>
  <dc:title>BOLNIČKE INFEK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rdana Đorđević">
    <vt:lpwstr>Medicinski fakultet Kragujevac</vt:lpwstr>
  </property>
</Properties>
</file>